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CFFD-99B1-41EB-A9BD-4C280F997F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1200" spc="-1" strike="noStrike">
                <a:solidFill>
                  <a:srgbClr val="444444"/>
                </a:solidFill>
                <a:latin typeface="LucidaGrande"/>
              </a:rPr>
              <a:t>La adopción de formatos propietarios o semi-propietarios es el resultado de estrategias corporativas que va encontra de las necesidades del usuario, que debería privilegiar accesibilidad, interoperabilidad y perpetiuidad de intercambio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323-829E-41E3-859E-73500D98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1D4-F57A-45B5-A66C-65DF2F22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2A8-46BC-4C73-B6CC-3E8122F2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D9B-C863-40F2-B57A-1B25D652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C7C-3A1C-4E1B-92C1-DEBAD80E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972-A46A-4980-9599-066458E0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F23-480B-435F-818F-3F8678C1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7F3-7F66-4B83-A526-A6823A45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E1E-95CA-431A-9C2C-DA74AA3E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D34-C1F3-427A-94AF-0E48DA0A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250-827F-4F20-867E-8EC1A2D2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F8F-6542-49F3-8085-07F4A3DF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EEE3-5A67-4805-8CAB-885283FDBAB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penformats.org/MacOS/edit" TargetMode="External"/><Relationship Id="rId2" Type="http://schemas.openxmlformats.org/officeDocument/2006/relationships/hyperlink" Target="http://www.openformats.org/MacOS/edit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os de fich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ulio Fernández Herm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so 2005/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lternativas (BD’s y presentacion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XLS, XL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SV Comma Separat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PT, 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DF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no maneja animación ni efectos de tran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pero posee capacidades interesantes de renderiz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44444"/>
                </a:solidFill>
                <a:latin typeface="LucidaGrande"/>
              </a:rPr>
              <a:t>•  </a:t>
            </a:r>
            <a:r>
              <a:rPr b="0" lang="es-ES_tradnl" sz="1800" spc="-1" strike="noStrike">
                <a:solidFill>
                  <a:srgbClr val="444444"/>
                </a:solidFill>
                <a:latin typeface="LucidaGrande"/>
              </a:rPr>
              <a:t>tanto las fuentes como los gráficos son manejados como objetos vectoriales, los cuales permiten achicar/agrandar diapsitivas sin perdida de c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44444"/>
                </a:solidFill>
                <a:latin typeface="LucidaGrande"/>
              </a:rPr>
              <a:t>•  </a:t>
            </a:r>
            <a:r>
              <a:rPr b="0" lang="es-ES_tradnl" sz="1800" spc="-1" strike="noStrike">
                <a:solidFill>
                  <a:srgbClr val="444444"/>
                </a:solidFill>
                <a:latin typeface="LucidaGrande"/>
              </a:rPr>
              <a:t>portabilidad: la paginación y el formateo son idénticos en cualquier plataforma en que los estés vie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(Imag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imágenes en paleta de 256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sustituible por su equivalente abierto, el P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MP, TIF (BitMap, Tagged Image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PEG es el formato de ele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maño ajustable en función de la calida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/N o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ato de uso en la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MF (Windows Meta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SVG(Scalable Vector Graphics) es su equivalente abierto para imágenes vecto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formato basado en el estándar público (XML, CSS, HTML) y creado por el consorcio W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(Aud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3 o WMA (Windows Media Aud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GG (Ogg Vorb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desarrollado para reemplazar todos los formatos propietarios usados actualmente para compresión de audio (MP3, WMA, etc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-Ogg es el nombre del formato del contenido desarrollado por Xiph.org para audio, video y metada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-Vorbis es el nombre del esquema de compresión de audio el cual eventualmente sera incluido en Ogg. Otros formatos pueden incluir Ogg, tales como FLAC y Spe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Hay muchos programas y librerías que usan los archivos de Ogg Vorbis en diferentes plataformas (Beos, Java Legacy </a:t>
            </a: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LucidaGrande"/>
                <a:hlinkClick r:id="rId1"/>
              </a:rPr>
              <a:t>MacOS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, Linux, </a:t>
            </a: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LucidaGrande"/>
                <a:hlinkClick r:id="rId2"/>
              </a:rPr>
              <a:t>MacOS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X, OS/2, Window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(Aud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C (Musep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formato de audio que da gran importancia a la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Está basado en el algoritmo MPEG-1 Layer-2 / M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Hay codificadores y decodificadores para Linux, Windows y Mac OS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AC (Free Losslesss Audio Cod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FLAC es un formato de compresión </a:t>
            </a:r>
            <a:r>
              <a:rPr b="1" lang="es-ES_tradnl" sz="2000" spc="-1" strike="noStrike">
                <a:solidFill>
                  <a:srgbClr val="444444"/>
                </a:solidFill>
                <a:latin typeface="LucidaGrande-Bold"/>
              </a:rPr>
              <a:t>sin pérdida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completamente libre y abier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Puede ser usado con su contenedor (container) nativo o con el contenedor de Ogg de la Fundación Xiph.Or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Actualmente es posible utilizarlo bajo Linux, Mac OS X y Window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además, está presente en dos librerías Java que permiten su utilización bajo cualquier plataforma en que pueda correr una Máquina Virtual J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lernativas (Aud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pe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Formato de compresión de audio abierto y libre de patente realizado </a:t>
            </a:r>
            <a:r>
              <a:rPr b="1" lang="es-ES_tradnl" sz="2000" spc="-1" strike="noStrike">
                <a:solidFill>
                  <a:srgbClr val="444444"/>
                </a:solidFill>
                <a:latin typeface="LucidaGrande"/>
              </a:rPr>
              <a:t>expresamente para la voz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El objetivo de este proyecto es romper la barrera de las aplicaciones vocales formando una alternativa libre a las costosas soluciones propieta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Su utilización se encuentra en la VoIP (Voice over IP), en los ‘audio books’ a través de internet o en el archivado de datos (por ejemplo los email de vo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El proyecto ha entrado a formar parte de la Fundación Xiph.or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í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EG, Quick Time, AVI, DIVx, SW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EG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o local. Acceso remo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dio en tiemp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productores: Real player, Windows Media P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tos: AS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dio almace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productores: iTun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tos: MPEG4, M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enformats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formación de esta presentación fue obtenida de openformats.org (G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The goal of </a:t>
            </a:r>
            <a:r>
              <a:rPr b="1" lang="es-ES_tradnl" sz="2400" spc="-1" strike="noStrike">
                <a:solidFill>
                  <a:srgbClr val="444444"/>
                </a:solidFill>
                <a:latin typeface="LucidaGrande-Bold"/>
              </a:rPr>
              <a:t>openformats.org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 is to create a freely-available and comprehensive documentation on open for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Copyright © 2004 </a:t>
            </a:r>
            <a:r>
              <a:rPr b="1" lang="es-ES_tradnl" sz="2400" spc="-1" strike="noStrike">
                <a:solidFill>
                  <a:srgbClr val="444444"/>
                </a:solidFill>
                <a:latin typeface="LucidaGrande-Bold"/>
              </a:rPr>
              <a:t>openformats.org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 Permission is granted to copy, distribute and/or modify this document under the terms of the GNU Free Documentation License, Version 1.2 or any later version published by the Free Software Foundation; with no Invariant Sections, no Front-Cover Texts, and no Back-Cover Tex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é es un form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Un formato es lo que permite a una aplicación interpretar los datos crudos en un arch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marcados en la extensión del nombre del arch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formatos específicos para imágenes (como JPEG, PNG, GIF, TIF, BM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texto formateado (HTML, RTF, 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documentos listos para la impresora (PDF, 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os Abier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Para trabajar con un archivo, la mayoria de las veces necesitaras alguna</a:t>
            </a: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aplicación que te permita leer, editar y guardar los datos contenidos en este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44444"/>
                </a:solidFill>
                <a:latin typeface="LucidaGrande-Bold"/>
              </a:rPr>
              <a:t>abierto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 si el modo de representación de sus datos es transparente y/o su especificación es disponible públ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ordinariamente, estándares determinados por autoridades púb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promovidos por compañias que eligen hacer pública la especificación de los formatos usados por su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puede ser codificado en una forma </a:t>
            </a:r>
            <a:r>
              <a:rPr b="0" i="1" lang="es-ES_tradnl" sz="2000" spc="-1" strike="noStrike">
                <a:solidFill>
                  <a:srgbClr val="444444"/>
                </a:solidFill>
                <a:latin typeface="Helvetica-Oblique"/>
              </a:rPr>
              <a:t>transparente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(leíble en cualquier editor de texto: este es el caso de lenguajes marcados) o en forma </a:t>
            </a:r>
            <a:r>
              <a:rPr b="0" i="1" lang="es-ES_tradnl" sz="2000" spc="-1" strike="noStrike">
                <a:solidFill>
                  <a:srgbClr val="444444"/>
                </a:solidFill>
                <a:latin typeface="Helvetica-Oblique"/>
              </a:rPr>
              <a:t>binaria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os Propi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la forma de presentación de sus datos es opaca y su especificación no está disponible públ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solo el software producido por una compañía que es dueña de las especificaciones de un formato de archivo podrá ser capaz de leer </a:t>
            </a:r>
            <a:r>
              <a:rPr b="0" i="1" lang="es-ES_tradnl" sz="2000" spc="-1" strike="noStrike">
                <a:solidFill>
                  <a:srgbClr val="444444"/>
                </a:solidFill>
                <a:latin typeface="Helvetica-Oblique"/>
              </a:rPr>
              <a:t>correcta y completamente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la información contenida en este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Formatos semi-proprietarios y prácticas predatorias predatory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adoptar al principio un formato abierto y después modificar progresivamente este formato con extensiones propie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444"/>
                </a:solidFill>
                <a:latin typeface="LucidaGrande"/>
              </a:rPr>
              <a:t>Cómo afecta el uso de form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Uso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LucidaGrande"/>
              </a:rPr>
              <a:t>En el uso personal es donde menos se nota el efecto de los formatos propietarios (pero se n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Uso con otr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LucidaGrande"/>
              </a:rPr>
              <a:t>Al intercambiar archivos en formato propietario asumes tácticamente que todos los receptores de tu archivo poseen el software necesario para abrirlo (con lo que los estás obligan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Evolución de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LucidaGrande"/>
              </a:rPr>
              <a:t>una estrategia largamente adoptada por productores de software consiste en actualizar regularmente los formatos de datos que implementan en sus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444"/>
                </a:solidFill>
                <a:latin typeface="LucidaGrande"/>
              </a:rPr>
              <a:t>Cómo afecta el uso de format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Control sobre tu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La información en ese archivo está en manos del que te ha facilitado el software con el que lo cre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Propagación de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transportados por archivos infectados intercambiados por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Mantener monopolios en el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Este problema puede no ser significativo para el usuario individual, pero afecta dramáticamente a la comunidad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LucidaGrande"/>
              </a:rPr>
              <a:t>Tu información depende más del creador del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LucidaGrande"/>
              </a:rPr>
              <a:t>Se convierte en estándar de facto y frena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444"/>
                </a:solidFill>
                <a:latin typeface="Helvetica-Bold"/>
              </a:rPr>
              <a:t>Cuatro razones para adoptar formatos abier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1 </a:t>
            </a:r>
            <a:r>
              <a:rPr b="1" lang="es-ES_tradnl" sz="2800" spc="-1" strike="noStrike">
                <a:solidFill>
                  <a:srgbClr val="444444"/>
                </a:solidFill>
                <a:latin typeface="LucidaGrande-Bold"/>
              </a:rPr>
              <a:t>Garantizar accesibilidad y perpetuidad a tus datos</a:t>
            </a: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: tu y los usuarios de tus datos siempre podran leer y accede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2 </a:t>
            </a:r>
            <a:r>
              <a:rPr b="1" lang="es-ES_tradnl" sz="2800" spc="-1" strike="noStrike">
                <a:solidFill>
                  <a:srgbClr val="444444"/>
                </a:solidFill>
                <a:latin typeface="LucidaGrande-Bold"/>
              </a:rPr>
              <a:t>Garantizar una completa transparencia</a:t>
            </a: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 al contenido de tus arch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3 </a:t>
            </a:r>
            <a:r>
              <a:rPr b="1" lang="es-ES_tradnl" sz="2800" spc="-1" strike="noStrike">
                <a:solidFill>
                  <a:srgbClr val="444444"/>
                </a:solidFill>
                <a:latin typeface="LucidaGrande-Bold"/>
              </a:rPr>
              <a:t>Limitando la propagación de virus</a:t>
            </a: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: adoptando formatos abiertos ayuda a reducir drasticamente el riesgo de contamin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4 </a:t>
            </a:r>
            <a:r>
              <a:rPr b="1" lang="es-ES_tradnl" sz="2800" spc="-1" strike="noStrike">
                <a:solidFill>
                  <a:srgbClr val="444444"/>
                </a:solidFill>
                <a:latin typeface="LucidaGrande-Bold"/>
              </a:rPr>
              <a:t>Promoviendo diversidad interoperabilidad</a:t>
            </a: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 en el dominio de la comunicación electró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(text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ML si necesita ser re-editado y/o publ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TF (Rich Text Format) como formato semi-propietario para texto con formato que cualquier procesador de textos 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DF (Portable Data Format) o PS (PostScript) si ya solo va a ser visto o imp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X, DVI para textos cient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DVI (Device Independent format).- Un fichero fuente TeX o LaTeX tiene que ser compilado. El resultado de esta compilación es el formato DVI, que puede leerse desde cualquiera platafor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el resultado de la compilación será, a su vez, convertido en PDF o 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8:01:18Z</dcterms:created>
  <dc:creator>Xulio Fernández Hermida</dc:creator>
  <dc:description/>
  <dc:language>en-US</dc:language>
  <cp:lastModifiedBy>Xulio Fernández Hermida</cp:lastModifiedBy>
  <cp:lastPrinted>2006-03-15T09:52:02Z</cp:lastPrinted>
  <dcterms:modified xsi:type="dcterms:W3CDTF">2006-03-15T12:17:18Z</dcterms:modified>
  <cp:revision>8</cp:revision>
  <dc:subject/>
  <dc:title>Presentación de PowerPoint  -  Introducción a la Multimedia</dc:title>
</cp:coreProperties>
</file>